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kongas.wav" ContentType="audio/x-wav"/>
  <Override PartName="/ppt/media/image8.png" ContentType="image/png"/>
  <Override PartName="/ppt/media/image7.png" ContentType="image/png"/>
  <Override PartName="/ppt/media/curve.wav" ContentType="audio/x-wav"/>
  <Override PartName="/ppt/media/image6.png" ContentType="image/png"/>
  <Override PartName="/ppt/media/romans.wav" ContentType="audio/x-wav"/>
  <Override PartName="/ppt/media/image3.jpeg" ContentType="image/jpeg"/>
  <Override PartName="/ppt/media/image15.png" ContentType="image/png"/>
  <Override PartName="/ppt/media/image5.png" ContentType="image/png"/>
  <Override PartName="/ppt/media/space.wav" ContentType="audio/x-wav"/>
  <Override PartName="/ppt/media/image14.png" ContentType="image/png"/>
  <Override PartName="/ppt/media/image9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drama.wav" ContentType="audio/x-wav"/>
  <Override PartName="/ppt/media/image2.png" ContentType="image/png"/>
  <Override PartName="/ppt/media/image1.png" ContentType="image/png"/>
  <Override PartName="/ppt/media/image10.png" ContentType="image/png"/>
  <Override PartName="/ppt/media/applause.wav" ContentType="audio/x-wav"/>
  <Override PartName="/ppt/media/cow.wav" ContentType="audio/x-wav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4DD-3E7A-42AF-9462-709C7D68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565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76000"/>
            <a:ext cx="86565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F42-D602-4E74-B455-A124FAC4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664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D21-B271-4BA1-AA0C-2FF815CE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520" y="191304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4320" y="191304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7600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520" y="417600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4320" y="417600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EEA-3425-420D-A7B4-368B2A19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7C1B-42D2-4A69-8F3C-B3683E53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56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AB22-5BD6-43FB-AA9F-864F4A92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56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0C22-094B-4A88-94D9-47A938BD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93BB-ADEA-47CC-8226-297EA4CA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0EC8-EBB6-43A5-AF38-44B4E2E6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539280"/>
            <a:ext cx="90522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1ED0-BD92-4346-957C-36F4A0C9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72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A070-AAD6-487A-B5C6-DC56094E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56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0A7-0678-4EF6-AA4B-016FB8C9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664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6DB3-CDE0-4861-A4BB-01D3E745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720" y="4176000"/>
            <a:ext cx="86565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AA00-317A-4D5E-A523-8289E23F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565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720" y="4176000"/>
            <a:ext cx="86565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83B8-CAE1-4AEA-9BC0-73B5DC22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72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664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81E1-654E-44A4-A222-D86BF911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7520" y="191304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4320" y="191304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720" y="417600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7520" y="417600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4320" y="417600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5100-6809-4641-A433-A9E8597C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D8288-2B67-4BA8-8F49-14A92F7C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56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48E0-B4D4-48AD-A21E-2B062ECD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56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AD31-8BC6-438F-BA64-2D8B0691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8ADD-1E48-441F-BD32-741B8A9C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9CA29-A530-4B87-B115-45131DB7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56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053-23BD-4868-A24C-83854770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360" y="539280"/>
            <a:ext cx="90522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3BFA1-9F5B-4331-A2F9-AE8D16FD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72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B151-A2F7-40EF-8085-5D5339E2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664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F709B-865A-4018-85AF-2A3BEF5E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720" y="4176000"/>
            <a:ext cx="86565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B51F-E066-4400-A4B3-EE3F8AA1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565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720" y="4176000"/>
            <a:ext cx="86565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6B9E-0944-4BC1-B945-1689D08D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72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664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D9813-2D56-4E38-809F-21DBDB61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7520" y="191304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74320" y="191304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720" y="417600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7520" y="417600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74320" y="417600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ABB49-28B1-4B14-B459-61455DCC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D77C8-3D5A-441A-8F1B-7442CE12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720" y="1913040"/>
            <a:ext cx="8656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F3F6-99F9-4651-8248-49D07E52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56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4FBA-ABF1-48C8-BACF-ACC9D68F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A17-130E-441D-83EB-3A4C2122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94D1-6D43-40F0-8A2E-08BD4BB8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7B77A-17CC-486B-852A-3D659C8E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360" y="539280"/>
            <a:ext cx="90522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CC6AA-3D41-41A0-936A-64EDCF19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72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6BB44-4D7C-4D1A-9D0A-F5CA5427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664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A0BA-4CDF-424B-8F59-430E1177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720" y="4176000"/>
            <a:ext cx="86565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3B8AA-5865-429E-ABA1-161C707B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86565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720" y="4176000"/>
            <a:ext cx="86565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D84C0-5D10-49A3-B873-D1FBBF3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72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664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D9743-5CF5-42BC-8DDE-12B9FA83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47520" y="191304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74320" y="191304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720" y="417600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47520" y="417600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74320" y="4176000"/>
            <a:ext cx="2787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384E5-223D-48A7-8747-D6FEC99C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C1D-6351-448D-A71B-276C67CF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539280"/>
            <a:ext cx="90522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8D3-FB7E-4090-B541-C96C98B1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8D1-850E-43EE-8996-E1A7DE48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6640" y="417600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05E-A64E-446B-B643-27CB437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6640" y="1913040"/>
            <a:ext cx="422424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76000"/>
            <a:ext cx="86565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41F-4879-45CF-8E77-0CB82AC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4716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4716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24160" cy="4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1960" cy="4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24160" cy="4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BF45F-0BAA-44F5-AEC4-EAA9DC2D05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4716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12680"/>
            <a:ext cx="86518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360" y="6527880"/>
            <a:ext cx="23241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527880"/>
            <a:ext cx="31719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54640" y="6527880"/>
            <a:ext cx="232380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EAF90-1F6D-4C86-87E1-954100B0AFC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522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720" y="1913040"/>
            <a:ext cx="8656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76000" y="6527520"/>
            <a:ext cx="23288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527520"/>
            <a:ext cx="3176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54640" y="6527520"/>
            <a:ext cx="23288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25E20-E17B-4208-8328-472180576A5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536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994440"/>
            <a:ext cx="2330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994440"/>
            <a:ext cx="3178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994440"/>
            <a:ext cx="233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EA4D8-EFA7-4BE6-A235-7E8E4150D70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romans.wav"/><Relationship Id="rId5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curve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kongas.wav"/><Relationship Id="rId3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ama.wav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audio" Target="../media/space.wav"/><Relationship Id="rId10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720" y="520200"/>
            <a:ext cx="9056880" cy="12877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260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Arial"/>
              </a:rPr>
              <a:t>Hello,My name is Donte I am doing an author study with my  tiger time class and I chose Jeff Kinney. Please, No questions during the presentation and no eating or dr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29040" y="2224080"/>
            <a:ext cx="29401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3"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420e"/>
                </a:solidFill>
                <a:latin typeface="Arial"/>
              </a:rPr>
              <a:t>Jeff Kin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96600" y="2057400"/>
            <a:ext cx="86756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420e"/>
                </a:solidFill>
                <a:latin typeface="Arial"/>
              </a:rPr>
              <a:t>In 1998 Jeff came up with the idea for Diary of a Wimpy Kid a story of a middle school weakling named Greg Heffley . Jeff worked on his book for almost eight years before showing it to a publisher in New Y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8229600" y="685800"/>
            <a:ext cx="1600200" cy="2286000"/>
          </a:xfrm>
          <a:prstGeom prst="rect">
            <a:avLst/>
          </a:prstGeom>
          <a:ln w="0">
            <a:noFill/>
          </a:ln>
        </p:spPr>
      </p:pic>
    </p:spTree>
  </p:cSld>
  <p:transition advTm="10000">
    <p:randomBar dir="horz"/>
    <p:sndAc>
      <p:stSnd>
        <p:snd r:embed="rId4" name="roman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360" y="58536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Arial"/>
              </a:rPr>
              <a:t>Gro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96600" y="1911240"/>
            <a:ext cx="86756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Arial"/>
              </a:rPr>
              <a:t>Jeff Kinney didn't want to grow up being a children's author. His dream was to become a news paper cartoonist,but he wasn't able to get his comic strips syn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5486400"/>
            <a:ext cx="2743200" cy="1600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65520" y="5029200"/>
            <a:ext cx="2774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  <p:sndAc>
      <p:stSnd>
        <p:snd r:embed="rId3" name="curv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58536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llege 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20360" y="1957320"/>
            <a:ext cx="86756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8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 Black"/>
              </a:rPr>
              <a:t>Jeff Kinney attended the University of Maryland in the early 1990s. It was there that Jeff ran a comic strip called “Igdoof” in the campus newspaper, and he knew he wanted to be a carto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1600200" cy="2286000"/>
          </a:xfrm>
          <a:prstGeom prst="rect">
            <a:avLst/>
          </a:prstGeom>
          <a:ln w="0">
            <a:noFill/>
          </a:ln>
        </p:spPr>
      </p:pic>
    </p:spTree>
  </p:cSld>
  <p:transition advTm="10000">
    <p:circle/>
    <p:sndAc>
      <p:stSnd>
        <p:snd r:embed="rId4" name="c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Relea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8400" y="1600200"/>
            <a:ext cx="8674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22560" algn="ctr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Diary of a Wimpy Kid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 was released in April 2007 and quickly became a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New York Tim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 bestseller, eventually reaching the #1 spot.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Diary of a Wimpy Kid: Rodrick Rule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was released in January 2008 and also became a #1 bestsel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sh dir="l"/>
    <p:sndAc>
      <p:stSnd>
        <p:snd r:embed="rId2" name="konga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83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3680" y="2090880"/>
            <a:ext cx="1005192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6304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ree skills my author does well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e illustrate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e has good hu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nd he has good writ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sh dir="l"/>
    <p:sndAc>
      <p:stSnd>
        <p:snd r:embed="rId2" name="dram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36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81200" y="2057400"/>
            <a:ext cx="1276200" cy="2514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057400" y="2057400"/>
            <a:ext cx="1371600" cy="2514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476520" y="2057400"/>
            <a:ext cx="15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5029200" y="2057400"/>
            <a:ext cx="1371600" cy="2514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400800" y="2057400"/>
            <a:ext cx="1371600" cy="2514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7772400" y="2057400"/>
            <a:ext cx="1371600" cy="2514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685800" y="4572000"/>
            <a:ext cx="1371600" cy="25146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28280" y="2971440"/>
            <a:ext cx="8658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hey also made Diary of a Wimpy kid Movie and Rodrick Rules The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d"/>
    <p:sndAc>
      <p:stSnd>
        <p:snd r:embed="rId9" name="spac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4360" y="628200"/>
            <a:ext cx="905508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4586"/>
                </a:solidFill>
                <a:latin typeface="Arial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598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2971800"/>
            <a:ext cx="5715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eadingrockets.org/books/interviews/kinn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3:07:46Z</dcterms:created>
  <dc:creator/>
  <dc:description/>
  <dc:language>en-US</dc:language>
  <cp:lastModifiedBy/>
  <cp:revision>0</cp:revision>
  <dc:subject/>
  <dc:title/>
</cp:coreProperties>
</file>